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981D-A2CF-4BED-A299-59DCAD95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DF3C-79AD-4CC0-8D50-D1231AC3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3B2-F495-4095-9077-5128A46A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AF05-93EF-4584-B584-5C1BF1F0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EF68-0753-4CF3-A2AA-598A5A72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1860-C129-4ACF-800A-C367065F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E333-5569-4D4B-AC04-4A7E0C2F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6354-9509-4E36-BC02-AA296EB4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8234-2DEB-4347-9CCA-53CD76CE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7825-2DB9-4C20-B5AE-2C57330C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28C6-CB9B-493E-9766-46EB65FA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00D6-8A7B-48B1-90E8-21DAC21C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1D7D-D8EC-47A8-B525-2421C86A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1784-0472-4B42-AB47-3AE7172A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7DD2-5586-49DC-A44F-8BD56188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381E-2121-4F7E-A90E-47669A96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B911-5D28-4749-8A73-885D0673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A742-726A-440A-8657-65971904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F0D0-DD1A-4512-97C2-B3894DF1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FBF3-A4A4-4E41-8F1E-9112CA58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765C-9D61-43AA-BFA0-816C4D6C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FDF7-FB1C-42B9-8470-D8F96535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09CD-4DEC-4174-B86A-7E1D4F9D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83EF-CAF7-4258-A373-AC3878E1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E50F-783D-4764-8BFA-B246E2AF0C34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FD3D-BE91-4580-9252-5BFCCD8682EE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417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Сжимаясь, сердце выталкивает кровь в сосуды. Когда они наполняются кровью, их упругие стенки расширяются, или, как говорят учёные, пульсируют. </a:t>
            </a:r>
            <a:br>
              <a:rPr sz="3600"/>
            </a:br>
            <a:r>
              <a:rPr b="0" lang="ru-RU" sz="36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Этот толчок-расширение называется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льсом</a:t>
            </a:r>
            <a:r>
              <a:rPr b="0" lang="ru-RU" sz="6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. 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093080" y="4653000"/>
            <a:ext cx="1658880" cy="2036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539640" y="5075280"/>
            <a:ext cx="423540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176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476360" y="795240"/>
            <a:ext cx="6767640" cy="54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22320" y="19080"/>
            <a:ext cx="91202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9" name="Picture 2" descr="C:\Users\Татьяна\Desktop\сердце1.png"/>
          <p:cNvPicPr/>
          <p:nvPr/>
        </p:nvPicPr>
        <p:blipFill>
          <a:blip r:embed="rId1"/>
          <a:stretch/>
        </p:blipFill>
        <p:spPr>
          <a:xfrm>
            <a:off x="2251080" y="1600200"/>
            <a:ext cx="4641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1" name="Сердечко оригами.mp4" descr=""/>
          <p:cNvPicPr/>
          <p:nvPr/>
        </p:nvPicPr>
        <p:blipFill>
          <a:blip r:embed="rId1"/>
          <a:stretch/>
        </p:blipFill>
        <p:spPr>
          <a:xfrm>
            <a:off x="0" y="129060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Задачи урока:</a:t>
            </a:r>
            <a:br>
              <a:rPr sz="5400"/>
            </a:br>
            <a:br>
              <a:rPr sz="3200"/>
            </a:b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1. Как </a:t>
            </a:r>
            <a:r>
              <a:rPr b="0" lang="ru-RU" sz="3200" spc="-1" strike="noStrike">
                <a:solidFill>
                  <a:srgbClr val="2f5897"/>
                </a:solidFill>
                <a:latin typeface="Times New Roman"/>
                <a:ea typeface="Calibri"/>
              </a:rPr>
              <a:t>устроено сердце?</a:t>
            </a:r>
            <a:br>
              <a:rPr sz="3200"/>
            </a:br>
            <a:r>
              <a:rPr b="0" lang="ru-RU" sz="3200" spc="-1" strike="noStrike">
                <a:solidFill>
                  <a:srgbClr val="2f5897"/>
                </a:solidFill>
                <a:latin typeface="Times New Roman"/>
                <a:ea typeface="Calibri"/>
              </a:rPr>
              <a:t> 2. Какую роль в организме оно выполняет?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897"/>
                </a:solidFill>
                <a:latin typeface="Times New Roman"/>
                <a:ea typeface="Calibri"/>
              </a:rPr>
              <a:t>3. От чего зависит работа сердца человека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0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f5897"/>
                </a:solidFill>
                <a:latin typeface="Palatino Linotype"/>
              </a:rPr>
              <a:t>Сердце и его работа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056040" y="2416320"/>
            <a:ext cx="518148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0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Задачи урока:</a:t>
            </a:r>
            <a:br>
              <a:rPr sz="5400"/>
            </a:br>
            <a:br>
              <a:rPr sz="3200"/>
            </a:b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1. Как </a:t>
            </a:r>
            <a:r>
              <a:rPr b="0" lang="ru-RU" sz="3200" spc="-1" strike="noStrike">
                <a:solidFill>
                  <a:srgbClr val="2f5897"/>
                </a:solidFill>
                <a:latin typeface="Times New Roman"/>
                <a:ea typeface="Calibri"/>
              </a:rPr>
              <a:t>устроено сердце?</a:t>
            </a:r>
            <a:br>
              <a:rPr sz="3200"/>
            </a:br>
            <a:r>
              <a:rPr b="0" lang="ru-RU" sz="3200" spc="-1" strike="noStrike">
                <a:solidFill>
                  <a:srgbClr val="2f5897"/>
                </a:solidFill>
                <a:latin typeface="Times New Roman"/>
                <a:ea typeface="Calibri"/>
              </a:rPr>
              <a:t> 2. Какую роль в организме оно выполняет? 3. От чего зависит работа сердца человека?</a:t>
            </a:r>
            <a:br>
              <a:rPr sz="4800"/>
            </a:b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4" name="Picture 2" descr="C:\Users\Татьяна\Desktop\vazhnyy-organ-e1455594128816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Century Gothic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Century Gothic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1979640" y="511200"/>
            <a:ext cx="511344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4" name="Анатомия Человека - Сердце.mp4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3389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835280" y="1081080"/>
            <a:ext cx="6014880" cy="4508640"/>
          </a:xfrm>
          <a:prstGeom prst="rect">
            <a:avLst/>
          </a:prstGeom>
          <a:ln w="0">
            <a:noFill/>
          </a:ln>
        </p:spPr>
      </p:pic>
      <p:pic>
        <p:nvPicPr>
          <p:cNvPr id="107" name="zvuk-serdca-gromkiy.mp3" descr=""/>
          <p:cNvPicPr/>
          <p:nvPr/>
        </p:nvPicPr>
        <p:blipFill>
          <a:blip r:embed="rId2"/>
          <a:stretch/>
        </p:blipFill>
        <p:spPr>
          <a:xfrm>
            <a:off x="538200" y="522936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6389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5:31:33Z</dcterms:created>
  <dc:creator>Татьяна</dc:creator>
  <dc:description/>
  <dc:language>en-US</dc:language>
  <cp:lastModifiedBy>Татьяна</cp:lastModifiedBy>
  <dcterms:modified xsi:type="dcterms:W3CDTF">2017-10-31T19:33:07Z</dcterms:modified>
  <cp:revision>19</cp:revision>
  <dc:subject/>
  <dc:title>Сердце и его работа</dc:title>
</cp:coreProperties>
</file>